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media/image25.png" ContentType="image/pn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9CD-9622-4C6A-AFFC-657CEF758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ритисак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а тај начин се, спречава али не у потпуности , могућност преливања желудачног садржаја у орофарин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7828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7828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Decade SSi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0" y="868212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0" y="144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12600" y="4341960"/>
            <a:ext cx="50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1480" cy="3413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61B-3CB2-49AE-91C8-5DB2CA6A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522-656D-4EAD-87C0-F88EF13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5BF-9522-429A-ADF0-ACFBCDC5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449-5855-4E92-8A78-5F924DC5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AC55-9DF0-4CBD-A008-826102B7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12EB-23F2-4902-B2B4-9D473914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A8B4-E423-41A7-AEC8-E6145DE7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D24-4B91-44BB-B60D-34326D6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D85C-EE84-4D95-A001-6A88E50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A2F0-A2DF-48B4-818A-82B5308A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B3EE-F73F-4C9C-A026-46502EE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BA2-8B09-4495-81A7-F1D93A2C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50A7-99C7-41B7-874E-44A0CB7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93F9-17DC-4EA1-8108-16CD90B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688-4A48-4B7B-BBDA-148777C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374E-8679-42BB-BF17-2F84DBAB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ABB-C37F-44EE-8412-76B9AE3B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6E3-9312-490D-8716-DCB96E93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563-34EB-4673-8B5F-C9B981AE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71A-EFCE-4860-AF25-AAD99DFF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C8A2-AC90-475B-82F5-088EBF1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A6F-1B55-4065-875C-4F34910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5A7-668A-4558-96F6-D4AB0E3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616-4741-4A2C-86CA-A309B6CA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C252-D321-4104-B900-58EEF09170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842-15F7-4A81-94B8-5888CD1E15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dbbd71"/>
                </a:solidFill>
                <a:latin typeface="Arial"/>
              </a:rPr>
              <a:t>Дисајни пут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ц. Др Татјана Ву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llick’s Maneuve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итисак на крикоидну хрскавицу после губитка св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што се езофагус налази иза крикоидне хрскавице , притисак извршен на њу  преноси се на езофагус и компримује 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AAHJAKH0.jpg" descr="AAHJAKH0"/>
          <p:cNvPicPr/>
          <p:nvPr/>
        </p:nvPicPr>
        <p:blipFill>
          <a:blip r:embed="rId1"/>
          <a:stretch/>
        </p:blipFill>
        <p:spPr>
          <a:xfrm>
            <a:off x="685800" y="3430440"/>
            <a:ext cx="82296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Пре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01600" y="1600200"/>
            <a:ext cx="6940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975040" y="2327400"/>
            <a:ext cx="6168960" cy="4530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5280" y="2276640"/>
            <a:ext cx="21607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 тај начин се, спречава али не у потпуности , могућност преливања желудачног садржаја у орофаринг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bbd71"/>
                </a:solidFill>
                <a:latin typeface="Arial"/>
              </a:rPr>
              <a:t>Обезбеђење дисајног пута неинтубационим техникама</a:t>
            </a:r>
            <a:br>
              <a:rPr sz="40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сновна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ентилационе маске за л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амоширећи вентилациони бало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ро/назофарингеални ерве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284720" y="3705120"/>
            <a:ext cx="4859280" cy="31528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39640" y="184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онекад је потребно подићи доњу вилицу да би се ослободио дисајни пут или пласирао назо или орофарингеални ерве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Сукциј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83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ацијентима са измењеним стањем свести потребно је одстранити садржај из усне дупље мануелно или сукцијом да би се осигурао проток вазд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16600" y="1844640"/>
            <a:ext cx="3227400" cy="462744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Oropharyngeal Airw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96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рофарингеални тубуси се користе само код пацијената без свести јер могу да изазову ларингоспазам и повраћање код будног пациј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635280" y="1825560"/>
            <a:ext cx="5508720" cy="5032440"/>
          </a:xfrm>
          <a:prstGeom prst="rect">
            <a:avLst/>
          </a:prstGeom>
          <a:ln w="5076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780000" y="2868480"/>
            <a:ext cx="5364000" cy="3989520"/>
          </a:xfrm>
          <a:prstGeom prst="rect">
            <a:avLst/>
          </a:prstGeom>
          <a:ln w="507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4760" y="311040"/>
            <a:ext cx="5905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bbd71"/>
                </a:solidFill>
                <a:latin typeface="Decade Light SSi"/>
              </a:rPr>
              <a:t>Постављање оралног </a:t>
            </a:r>
            <a:r>
              <a:rPr b="0" lang="en-US" sz="3600" spc="-1" strike="noStrike">
                <a:solidFill>
                  <a:srgbClr val="dbbd71"/>
                </a:solidFill>
                <a:latin typeface="Tahoma"/>
              </a:rPr>
              <a:t>Airwa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600" spc="-1" strike="noStrike">
                <a:solidFill>
                  <a:srgbClr val="dbbd71"/>
                </a:solidFill>
                <a:latin typeface="Tahoma"/>
              </a:rPr>
              <a:t>код одрасл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9840" y="5410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09840" y="5638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09840" y="5867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09840" y="6095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09840" y="6324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9840" y="6553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09840" y="162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09840" y="390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9840" y="8478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09840" y="10764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09840" y="1305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09840" y="1752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09840" y="1981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09840" y="2209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09840" y="2438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09840" y="2666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09840" y="2895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09840" y="3124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09840" y="3352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09840" y="3581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09840" y="3809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09840" y="4038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09840" y="4267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09840" y="4495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09840" y="4724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09840" y="4952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09840" y="5181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09840" y="1533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09840" y="6192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1568520"/>
            <a:ext cx="6983280" cy="4898880"/>
          </a:xfrm>
          <a:prstGeom prst="rect">
            <a:avLst/>
          </a:prstGeom>
          <a:ln w="50760">
            <a:solidFill>
              <a:srgbClr val="ff66ff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5141880" y="5289480"/>
            <a:ext cx="3300480" cy="148032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Одаберите одговарајућу величин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86000" y="1276200"/>
            <a:ext cx="6100920" cy="5183280"/>
          </a:xfrm>
          <a:prstGeom prst="rect">
            <a:avLst/>
          </a:prstGeom>
          <a:ln w="50760">
            <a:solidFill>
              <a:srgbClr val="ff66ff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09840" y="5410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09840" y="5638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09840" y="5867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09840" y="6095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09840" y="6324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9840" y="6553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09840" y="162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09840" y="390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09840" y="8478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09840" y="10764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09840" y="1305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09840" y="1752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09840" y="1981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09840" y="2209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09840" y="2438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09840" y="2666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09840" y="2895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09840" y="3124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09840" y="3352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09840" y="3581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09840" y="3809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09840" y="4038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09840" y="4267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09840" y="4495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09840" y="4724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09840" y="4952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09840" y="5181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09840" y="1533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09840" y="6192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3000" y="5454720"/>
            <a:ext cx="4071960" cy="101988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Поставити кривину уз горње неп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обезбеђен дисајни пут је узрок бројних ванболничких леталних исх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јчешће због непрепознате потребе да се ДП обезбеди, затим због непостојања могућности да се ДП обезбеди или због неуспелих покушаја обезбеђењ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безбеђење ДП је у неким ситуацијама изазов чак и за искусно лице ( траума, тешка максилофацијална повреда ,повреда вратне кичме, повреда самог дисајног пут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П може бити копромитован изненада,или постепено, потпуно или делим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757920" cy="5295960"/>
          </a:xfrm>
          <a:prstGeom prst="rect">
            <a:avLst/>
          </a:prstGeom>
          <a:ln w="50760">
            <a:solidFill>
              <a:srgbClr val="ff66ff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09840" y="5410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09840" y="5638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09840" y="5867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09840" y="6095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09840" y="6324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09840" y="6553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09840" y="162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09840" y="390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09840" y="8478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09840" y="10764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09840" y="1305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09840" y="1752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09840" y="1981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09840" y="2209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2438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09840" y="2666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09840" y="2895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09840" y="3124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09840" y="3352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09840" y="3581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09840" y="3809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09840" y="4038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09840" y="4267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09840" y="4495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09840" y="4724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09840" y="4952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09840" y="5181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09840" y="1533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09840" y="6192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68720" y="5765760"/>
            <a:ext cx="5357880" cy="55944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Заротирати за 180</a:t>
            </a:r>
            <a:r>
              <a:rPr b="0" lang="en-US" sz="2800" spc="-1" strike="noStrike">
                <a:solidFill>
                  <a:srgbClr val="ffffff"/>
                </a:solidFill>
                <a:latin typeface="Criteria SSi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85920" y="338040"/>
            <a:ext cx="6818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Decade Light SSi"/>
              </a:rPr>
              <a:t>Oral Airway Insertion i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52480" y="1209600"/>
            <a:ext cx="6748560" cy="5094360"/>
          </a:xfrm>
          <a:prstGeom prst="rect">
            <a:avLst/>
          </a:prstGeom>
          <a:ln w="50760">
            <a:solidFill>
              <a:srgbClr val="ff66ff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09840" y="5410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09840" y="5638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09840" y="5867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09840" y="6095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09840" y="6324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09840" y="6553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09840" y="162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09840" y="390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09840" y="8478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09840" y="10764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09840" y="13050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09840" y="1752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09840" y="1981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09840" y="2209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09840" y="2438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09840" y="2666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09840" y="2895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09840" y="3124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09840" y="3352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9840" y="3581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09840" y="3809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09840" y="4038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09840" y="42670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09840" y="44956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09840" y="47242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09840" y="49528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09840" y="5181480"/>
            <a:ext cx="152280" cy="15264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09840" y="15336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09840" y="619200"/>
            <a:ext cx="152280" cy="152280"/>
          </a:xfrm>
          <a:prstGeom prst="rect">
            <a:avLst/>
          </a:prstGeom>
          <a:gradFill rotWithShape="0">
            <a:gsLst>
              <a:gs pos="0">
                <a:srgbClr val="000f3c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25960" y="5332320"/>
            <a:ext cx="3836880" cy="148032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База треба да се ослони о пацијентова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85920" y="338040"/>
            <a:ext cx="6818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Decade Light SSi"/>
              </a:rPr>
              <a:t>Oral Airway Insertion in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875880" y="358920"/>
            <a:ext cx="7833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dbbd71"/>
                </a:solidFill>
                <a:latin typeface="Decade Light SSi"/>
              </a:rPr>
              <a:t>Назофарингеални </a:t>
            </a:r>
            <a:r>
              <a:rPr b="1" lang="en-US" sz="4400" spc="-1" strike="noStrike">
                <a:solidFill>
                  <a:srgbClr val="dbbd71"/>
                </a:solidFill>
                <a:latin typeface="Decade Light SSi"/>
              </a:rPr>
              <a:t> Airw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03400" y="162000"/>
            <a:ext cx="152280" cy="6543720"/>
            <a:chOff x="1103400" y="162000"/>
            <a:chExt cx="152280" cy="6543720"/>
          </a:xfrm>
        </p:grpSpPr>
        <p:sp>
          <p:nvSpPr>
            <p:cNvPr id="340" name=""/>
            <p:cNvSpPr/>
            <p:nvPr/>
          </p:nvSpPr>
          <p:spPr>
            <a:xfrm>
              <a:off x="1103400" y="5410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03400" y="5638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03400" y="5867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03400" y="6095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03400" y="6324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3400" y="1620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103400" y="3906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03400" y="8478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03400" y="10764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3400" y="13050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3400" y="1752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03400" y="1981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3400" y="2209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03400" y="2438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03400" y="2666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03400" y="2895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03400" y="3124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3400" y="3352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03400" y="3581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03400" y="3809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3400" y="4038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03400" y="4267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03400" y="4495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03400" y="4724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03400" y="4952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03400" y="5181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3400" y="15336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3400" y="6192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03400" y="6553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62120" y="1290600"/>
            <a:ext cx="7839000" cy="4375080"/>
          </a:xfrm>
          <a:prstGeom prst="rect">
            <a:avLst/>
          </a:prstGeom>
          <a:ln w="50760">
            <a:solidFill>
              <a:srgbClr val="99ff66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3602160" y="4889520"/>
            <a:ext cx="5205240" cy="101988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Постоји у различитим величинама и облици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33680" y="298440"/>
            <a:ext cx="653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dbbd71"/>
                </a:solidFill>
                <a:latin typeface="Decade Light SSi"/>
              </a:rPr>
              <a:t>Назофарингеални </a:t>
            </a:r>
            <a:r>
              <a:rPr b="1" lang="en-US" sz="3200" spc="-1" strike="noStrike">
                <a:solidFill>
                  <a:srgbClr val="dbbd71"/>
                </a:solidFill>
                <a:latin typeface="Decade Light SSi"/>
              </a:rPr>
              <a:t>Air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090440" y="162000"/>
            <a:ext cx="152280" cy="6543720"/>
            <a:chOff x="1090440" y="162000"/>
            <a:chExt cx="152280" cy="6543720"/>
          </a:xfrm>
        </p:grpSpPr>
        <p:sp>
          <p:nvSpPr>
            <p:cNvPr id="375" name=""/>
            <p:cNvSpPr/>
            <p:nvPr/>
          </p:nvSpPr>
          <p:spPr>
            <a:xfrm>
              <a:off x="1090440" y="5410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90440" y="5638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90440" y="5867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90440" y="6095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90440" y="6324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90440" y="6553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90440" y="1620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3906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0440" y="8478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90440" y="10764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90440" y="13050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90440" y="1752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90440" y="1981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90440" y="2209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90440" y="2438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90440" y="2666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90440" y="2895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90440" y="3124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0440" y="3352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90440" y="3581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0440" y="3809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90440" y="4038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90440" y="42670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90440" y="44956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90440" y="47242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90440" y="49528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90440" y="5181480"/>
              <a:ext cx="152280" cy="15264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90440" y="15336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90440" y="61920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000f3c"/>
                </a:gs>
                <a:gs pos="100000">
                  <a:srgbClr val="00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143000" y="1076400"/>
            <a:ext cx="7434360" cy="541476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4770360" y="5572080"/>
            <a:ext cx="4067280" cy="148032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Одредити одговарајућу величину</a:t>
            </a:r>
            <a:r>
              <a:rPr b="0" lang="en-US" sz="2800" spc="-1" strike="noStrike">
                <a:solidFill>
                  <a:srgbClr val="ffffff"/>
                </a:solidFill>
                <a:latin typeface="Criteria SS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143000" y="1157400"/>
            <a:ext cx="7496280" cy="542592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21440" y="5351400"/>
            <a:ext cx="3182760" cy="194076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Лубрикант са гелом растворљибим у води</a:t>
            </a:r>
            <a:r>
              <a:rPr b="0" lang="en-US" sz="2800" spc="-1" strike="noStrike">
                <a:solidFill>
                  <a:srgbClr val="ffffff"/>
                </a:solidFill>
                <a:latin typeface="Criteria SS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35880" cy="524988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1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18200" y="5372280"/>
            <a:ext cx="3193920" cy="1480320"/>
          </a:xfrm>
          <a:prstGeom prst="roundRect">
            <a:avLst>
              <a:gd name="adj" fmla="val 12495"/>
            </a:avLst>
          </a:prstGeom>
          <a:solidFill>
            <a:srgbClr val="cca500"/>
          </a:solidFill>
          <a:ln w="0">
            <a:noFill/>
          </a:ln>
          <a:effectLst>
            <a:outerShdw dist="17819" dir="2700000" blurRad="0" rotWithShape="0">
              <a:srgbClr val="796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riteria SSi"/>
              </a:rPr>
              <a:t>Убацити у прохадан септу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19320" y="1204920"/>
            <a:ext cx="7391160" cy="541332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1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Назофарингеални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irw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006600"/>
                </a:solidFill>
                <a:latin typeface="Tahoma"/>
              </a:rPr>
              <a:t>Пред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болесници са трисмус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болесници са грчем жвакаћих мишић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аксилофацијалне повре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Недоста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Болесници са повредом базе лоб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потреба код деце због повреде лимфног ткива у назофарингсу које јако крва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bbd71"/>
                </a:solidFill>
                <a:latin typeface="Arial"/>
              </a:rPr>
              <a:t>Вентилационе маске за лице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Маске за лице могу бити различите величине облика материј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еко маске за лице може се допремити 15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оком вентилације на маску мора се водити рачуна о могућим компликацијама у које спадају повреде рожњаче и булбу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1676520" y="1262160"/>
            <a:ext cx="6300720" cy="533880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2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92200" y="378000"/>
            <a:ext cx="6680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ahoma"/>
              </a:rPr>
              <a:t>Вентилационе маске за ли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Шта треба да знамо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4" name="Picture 4" descr="well of course the tube is necessary"/>
          <p:cNvPicPr/>
          <p:nvPr/>
        </p:nvPicPr>
        <p:blipFill>
          <a:blip r:embed="rId1"/>
          <a:stretch/>
        </p:blipFill>
        <p:spPr>
          <a:xfrm>
            <a:off x="2987640" y="1700280"/>
            <a:ext cx="6156360" cy="5157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1844640"/>
            <a:ext cx="237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аздух је доб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3399"/>
                </a:solidFill>
                <a:latin typeface="Tahoma"/>
              </a:rPr>
              <a:t>Ружичаста је д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cc"/>
                </a:solidFill>
                <a:latin typeface="Tahoma"/>
              </a:rPr>
              <a:t>Модра је ло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аздух улаз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аздух излаз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600200" y="1238400"/>
            <a:ext cx="6543720" cy="5370480"/>
          </a:xfrm>
          <a:prstGeom prst="rect">
            <a:avLst/>
          </a:prstGeom>
          <a:ln w="50760">
            <a:solidFill>
              <a:srgbClr val="ff0066"/>
            </a:solidFill>
            <a:miter/>
          </a:ln>
        </p:spPr>
      </p:pic>
      <p:sp>
        <p:nvSpPr>
          <p:cNvPr id="426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92200" y="378000"/>
            <a:ext cx="696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ahoma"/>
              </a:rPr>
              <a:t>Вентилационе маске за ли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Ларингеална мас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332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2000" spc="-1" strike="noStrike">
                <a:solidFill>
                  <a:srgbClr val="006600"/>
                </a:solidFill>
                <a:latin typeface="Tahoma"/>
              </a:rPr>
              <a:t>Пред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Лако и брзо се плас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Лекари који нису едуковани за Е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ије потребан латингоско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2000" spc="-1" strike="noStrike">
                <a:solidFill>
                  <a:srgbClr val="ff0000"/>
                </a:solidFill>
                <a:latin typeface="Tahoma"/>
              </a:rPr>
              <a:t>Недоста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е обезбеђује заштиту од регургитације и аспир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ије погодна за пацијенте са повредом Д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оже делимичну опструкцију претворити у комплетн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4" descr="DA3C17FF1"/>
          <p:cNvPicPr/>
          <p:nvPr/>
        </p:nvPicPr>
        <p:blipFill>
          <a:blip r:embed="rId1"/>
          <a:stretch/>
        </p:blipFill>
        <p:spPr>
          <a:xfrm>
            <a:off x="3740040" y="3106800"/>
            <a:ext cx="54039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води се уз тврдо непце , преко језика, што дубље у хипофаринкс док се не појави отпор. Правилно позиционирана ЛМ налази се у хипофаринксу, врх затвара лумен езофагуса , тубус маске се налази између базе језика и задњег зида ждрела, па је на тај начин ДП отвор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4" descr="DA3C17FF6"/>
          <p:cNvPicPr/>
          <p:nvPr/>
        </p:nvPicPr>
        <p:blipFill>
          <a:blip r:embed="rId1"/>
          <a:stretch/>
        </p:blipFill>
        <p:spPr>
          <a:xfrm>
            <a:off x="4427640" y="3111480"/>
            <a:ext cx="4716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Интубациона техни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ндикац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пнеја и хиповентил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пструкција дисајног пу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чани засто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змењено стање свес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CS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&lt;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ахипнеја , цијаноза, хипокс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вреде лица и врата које угрожавају Д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ежак хеморагијски ш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еке дијагностичке процед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Хирушке интервенције у анестезиј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зотрахеална интубација-алтернатива оротрахеалне интуба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имарнана индикација  је отежана интубациј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онтраиндикација апнеја и повреда базе лобањ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0000"/>
                </a:solidFill>
                <a:latin typeface="Arial"/>
              </a:rPr>
              <a:t>Ендотр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4400" spc="-1" strike="noStrike">
                <a:solidFill>
                  <a:srgbClr val="cc0000"/>
                </a:solidFill>
                <a:latin typeface="Arial"/>
              </a:rPr>
              <a:t>хеална интубациј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7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sr-CS" sz="4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500" spc="-1" strike="noStrike">
                <a:solidFill>
                  <a:srgbClr val="ff0000"/>
                </a:solidFill>
                <a:latin typeface="Tahoma"/>
              </a:rPr>
              <a:t>З</a:t>
            </a:r>
            <a:r>
              <a:rPr b="1" lang="sr-CS" sz="4500" spc="-1" strike="noStrike">
                <a:solidFill>
                  <a:srgbClr val="ff0000"/>
                </a:solidFill>
                <a:latin typeface="Tahoma"/>
              </a:rPr>
              <a:t>латни стандард</a:t>
            </a:r>
            <a:r>
              <a:rPr b="1" i="1" lang="hr-HR" sz="47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1" lang="sr-CS" sz="4500" spc="-1" strike="noStrike">
                <a:solidFill>
                  <a:srgbClr val="ffffff"/>
                </a:solidFill>
                <a:latin typeface="Tahoma"/>
              </a:rPr>
              <a:t> у одржавању проходности дисајног пута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442" name="Object 7"/>
          <p:cNvGraphicFramePr/>
          <p:nvPr/>
        </p:nvGraphicFramePr>
        <p:xfrm>
          <a:off x="608040" y="1600200"/>
          <a:ext cx="37353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600200"/>
                    <a:ext cx="37353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Поступа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Прекид интуб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је н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ме бити д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и од 30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секун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бавезна контрола положаја и дубина туб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Обавезна фиксација туб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666960" cy="4257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8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38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Фибероптичка интубациј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ристи се к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цијената који имају компромитован дисајни пу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цијената где је отежана интуб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цијената са ограниченом покретљивошћу вр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цијената специфичном патологијом вратне кич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цијената са  максилофацијалним повред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156360" y="4475160"/>
            <a:ext cx="29876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dbbd71"/>
                </a:solidFill>
                <a:latin typeface="Arial"/>
              </a:rPr>
              <a:t>Анатомија горњег дисајног пу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31780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знавање анатомских карактеристика ларинкса и фаринкса је веома важно за добру орјентацију током обезбеђења дисајног пу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AAFWATZ0.jpg" descr="AAFWATZ0"/>
          <p:cNvPicPr/>
          <p:nvPr/>
        </p:nvPicPr>
        <p:blipFill>
          <a:blip r:embed="rId1"/>
          <a:stretch/>
        </p:blipFill>
        <p:spPr>
          <a:xfrm>
            <a:off x="3780000" y="1628640"/>
            <a:ext cx="536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6012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Питањ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Анатомија горњих дисајних пут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према за обезбеђење дисајног п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еинтубационе технике обезбеђења дисајног пу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Ларингеална ма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Интубационе технике обезбеђења дисајног п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зотрахеална интубациј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Индикације за интубациј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Фибероптичка интуб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рикоидотон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Вентилација АМБУ бало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остављанје орогарингеалног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rway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Ендотрахеална интубациј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 назотрахеалну интубацију потребно је познавање назофарингеалног пу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( доњи и заједнички носни ходник) кроз који се усмерава тубус ка хоанама и на тај начин се избегава повреда назофарингса и ендокраниј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Фаринкс је фибромускуларна структура која се пружа од базе лобање до крикоидне хрска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База језика и епиглотис у функционалном смислу одвајају орофаринкс од ларингофаринкса (хипофаринк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Ларинкс чини 9 хрскавица повезаних мишићима и лигамент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јужи део горњег дисајног пута је глотис простор ограничен гласницама и чини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m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tid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Лумен ларинкс одржава крикоидна хрскавица која је прстенастог облика и није растегљ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54800" y="1530360"/>
            <a:ext cx="3589200" cy="532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5532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Процена дисајног пу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тежано обезбеђење ДП и оксигенација може настати већ приликом вентилације помоћу мас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ТЕЖАНА ВЕНТИЛАЦИЈА се дефинише као немогућност одржавања сатурацијевеће од 90 % када се примени 100% кисеоник преко маске за дис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једнички назив за отежану вентилацију на маску, ларингоскопију, и ендотрахеалну интубацију је DAM Difficult Airway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dbbd71"/>
                </a:solidFill>
                <a:latin typeface="Arial"/>
              </a:rPr>
              <a:t>опрема за обезбеђење ДП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Тубуси (различитих величи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Ригидни ларингоскоп са кривом и правом шпату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ентилационе маске за л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рални, назални ервеј (airw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упраглотична средств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aglottic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way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омбитуб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tube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Фибероптички бронхоско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т за крикоидотом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14:34:56Z</dcterms:created>
  <dc:creator>Info</dc:creator>
  <dc:description/>
  <dc:language>en-US</dc:language>
  <cp:lastModifiedBy>Info</cp:lastModifiedBy>
  <dcterms:modified xsi:type="dcterms:W3CDTF">2015-02-28T19:21:18Z</dcterms:modified>
  <cp:revision>9</cp:revision>
  <dc:subject/>
  <dc:title>Дисајни пут</dc:title>
</cp:coreProperties>
</file>